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786-1947-4F1F-825F-F1D5C39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481-DFBF-4D8F-A2C5-AA43A5F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288-0A4A-4016-A6BD-DC029C75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61D-EDFF-4744-B618-13554A91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255-441B-43D2-ACE1-86DDAAA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CF9-271B-4433-A827-26211F49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DB-DD3F-4937-8D3F-B0E368F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53C-BC0B-418D-BD7E-7CBCB89B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238-0374-4FC7-841F-33DCE8A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D27-7FBE-42CF-AA59-1154876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AF1-E336-4671-978B-0CA9AD2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A77-5562-43E6-8C38-5A32F5BC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FE87-E9C2-4B7F-9850-EB3B62D4DD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1773360"/>
            <a:ext cx="65516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今天你快乐吗？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68360" y="2060640"/>
            <a:ext cx="4572000" cy="446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68360" y="907920"/>
            <a:ext cx="48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经常保持微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79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322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438280"/>
            <a:ext cx="5715000" cy="398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105264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学会和别人一块分享喜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乐于助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84360" y="2133720"/>
            <a:ext cx="5867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并保持自己的一颗童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923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学会和各种人愉快的相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98900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141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3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保持幽默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要能处乱不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248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学会宽恕他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有几个知心朋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92200" y="19162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常和别人保持合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从中获得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94000" y="1700280"/>
            <a:ext cx="419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1988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的梦想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…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享受你的天伦之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192420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保持高度的自信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880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尊重弱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149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2064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偶尔放纵自己一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105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保持良好的心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268280"/>
            <a:ext cx="858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次去远游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优异的学习成绩或收入颇丰的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属于自己的美丽小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健康的身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5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参加一次演唱会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6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有几个知心的朋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7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突出的特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我曾经的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放下包袱，轻松学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8120" y="836640"/>
            <a:ext cx="84358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华文行楷"/>
                <a:ea typeface="华文行楷"/>
              </a:rPr>
              <a:t>听花开的声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华文行楷"/>
                <a:ea typeface="华文行楷"/>
              </a:rPr>
              <a:t>      ——</a:t>
            </a:r>
            <a:r>
              <a:rPr b="1" lang="zh-CN" sz="6000" spc="-1" strike="noStrike">
                <a:solidFill>
                  <a:srgbClr val="6600ff"/>
                </a:solidFill>
                <a:latin typeface="华文行楷"/>
                <a:ea typeface="华文行楷"/>
              </a:rPr>
              <a:t>让我们健康成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360" y="2351160"/>
            <a:ext cx="946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什么样的状态才算是健康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2455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何才能得到健康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62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、身体健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4040" y="1773360"/>
            <a:ext cx="51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重视是前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24040" y="2924280"/>
            <a:ext cx="51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安全是底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47800" y="4076640"/>
            <a:ext cx="53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锻炼是保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784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2064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二、心理健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060640"/>
            <a:ext cx="608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学会寻找快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715000" cy="442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990720"/>
            <a:ext cx="54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要有目标和追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07:51Z</dcterms:modified>
  <cp:revision>21</cp:revision>
  <dc:subject>主题班会课件(分28大类): http://shop62905894.taobao.com</dc:subject>
  <dc:title>主题班会课件(分28大类): http://shop62905894.taobao.com</dc:title>
</cp:coreProperties>
</file>